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suction.wav" ContentType="audio/x-wav"/>
  <Override PartName="/ppt/media/image3.jpeg" ContentType="image/jpeg"/>
  <Override PartName="/ppt/media/Question.wav" ContentType="audio/x-wav"/>
  <Override PartName="/ppt/media/image16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jpeg" ContentType="image/jpeg"/>
  <Override PartName="/ppt/media/image22.png" ContentType="image/png"/>
  <Override PartName="/ppt/media/camera.wav" ContentType="audio/x-wav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B91-19D7-4C70-8170-17C8B580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A2A-6A72-4E93-9786-9DC18B81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F30-8135-4EA4-80CE-D123EF00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755-14F5-4E85-9637-9B6AFF80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403D-D669-4903-A1A8-F214C7BC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D9BA-D5F9-429E-A878-5616C60D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7B5-6635-4FB0-ADBB-6CFB4D5C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E62-74C0-44A2-8A49-ADED89EE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AF0A-D7ED-443A-93A7-FBC1BF78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3C12-126F-4AF3-8374-42ABC1A9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AC19-ABB7-4E08-935E-69F864FA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4C4-B705-43FE-943F-6321572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1644-6532-4035-ACCB-E2343BC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6EA8-D52D-485F-B27A-FE5D9AA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E861-2BEF-43E7-9D6D-3C88254D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7CED-9367-4819-A48F-F20808A4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18D2-5B35-4AEE-B0DE-2EADC75C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B83-3981-4770-86A5-519186BD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D43-5A5E-41EB-BC77-5CBE278F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405-B927-40BB-865A-338ABABA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5BC-6DC4-44C8-8261-044B9946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BC1-68BE-4B56-9556-2215DF3F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790-7AD7-4371-8B7F-4A8176A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678-DB37-416C-BAEF-CBDEE05C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079-A6BA-47B1-A1EC-7ED6342EAB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5E41-179D-4F34-801B-23A2A6F49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Question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同学们，你们喜欢旅游吗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20104714343211"/>
          <p:cNvPicPr/>
          <p:nvPr/>
        </p:nvPicPr>
        <p:blipFill>
          <a:blip r:embed="rId1"/>
          <a:stretch/>
        </p:blipFill>
        <p:spPr>
          <a:xfrm>
            <a:off x="539640" y="20606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天坛公园"/>
          <p:cNvPicPr/>
          <p:nvPr/>
        </p:nvPicPr>
        <p:blipFill>
          <a:blip r:embed="rId2"/>
          <a:stretch/>
        </p:blipFill>
        <p:spPr>
          <a:xfrm>
            <a:off x="4500720" y="1916280"/>
            <a:ext cx="2447640" cy="202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故宫"/>
          <p:cNvPicPr/>
          <p:nvPr/>
        </p:nvPicPr>
        <p:blipFill>
          <a:blip r:embed="rId3"/>
          <a:stretch/>
        </p:blipFill>
        <p:spPr>
          <a:xfrm>
            <a:off x="4500720" y="4076640"/>
            <a:ext cx="23763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宋体"/>
              </a:rPr>
              <a:t>故宫概况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故宫位于北京市中心，也称“紫禁城”。始建于明永乐四年（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1406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年），建成于永乐十八年（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1420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年），距今约有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宋体"/>
              </a:rPr>
              <a:t>600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年的历史。今天人们称她为故宫，意为过去的皇宫。这里曾居住过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个皇帝，是明清两代（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1368—191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年）的皇宫，现称为“故宫博物院”。故宫的整个建筑金碧辉煌，庄严绚丽，被誉为世界五大宫之一（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北京故宫、法国凡尔赛宫、英国白金汉宫、美国白宫、俄罗斯克里姆林宫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），并被联合国科教文组织列为“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世界文化遗产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”。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宋体"/>
              </a:rPr>
              <a:t>走近作者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宋体"/>
              </a:rPr>
              <a:t>---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宋体"/>
              </a:rPr>
              <a:t>黄传惕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宋体"/>
              </a:rPr>
              <a:t>黄传惕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(tì)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1934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年生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湖南省平江县人。现任中央人民广播电台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宋体"/>
              </a:rPr>
              <a:t>祖国各地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宋体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宋体"/>
              </a:rPr>
              <a:t>历史故事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节目编辑。主要作品有：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天安门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绿色的希望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，长诗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映山红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故宫博物院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这篇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宋体"/>
              </a:rPr>
              <a:t>说明文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是作者在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1979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年夏天所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5246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宋体"/>
              </a:rPr>
              <a:t>汉字积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197000"/>
            <a:ext cx="921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矗立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chù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鳌头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áo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湛蓝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zhà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 琉璃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liú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鎏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liú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金    蟠龙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pá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中轴线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zhóu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金銮殿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luá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击磬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qìng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玉玺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xǐ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  檀木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tá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 攒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cuá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乾清宫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qiá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坤宁宫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kū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   诏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zhào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书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肃穆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mù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上谕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yù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   额枋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fāng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 藻井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zǎo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矫健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jiǎo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妃嫔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pí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  修缮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shàn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  迥然不同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jiǒng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）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宋体"/>
              </a:rPr>
              <a:t>词语积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玲珑：精巧细致。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湛蓝：深蓝。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布局：全面安排。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肃穆：严肃而恭敬。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幽雅：幽静而雅致。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悠扬：形容声音时高时低，和谐动听。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井然有序：形容整齐的样子。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3303720" y="1639800"/>
            <a:ext cx="2536560" cy="3578400"/>
            <a:chOff x="3303720" y="1639800"/>
            <a:chExt cx="2536560" cy="3578400"/>
          </a:xfrm>
        </p:grpSpPr>
        <p:grpSp>
          <p:nvGrpSpPr>
            <p:cNvPr id="114" name="Group 3"/>
            <p:cNvGrpSpPr/>
            <p:nvPr/>
          </p:nvGrpSpPr>
          <p:grpSpPr>
            <a:xfrm>
              <a:off x="3303720" y="1639800"/>
              <a:ext cx="2536560" cy="3578400"/>
              <a:chOff x="3303720" y="1639800"/>
              <a:chExt cx="2536560" cy="3578400"/>
            </a:xfrm>
          </p:grpSpPr>
          <p:sp>
            <p:nvSpPr>
              <p:cNvPr id="115" name="Rectangle 4"/>
              <p:cNvSpPr/>
              <p:nvPr/>
            </p:nvSpPr>
            <p:spPr>
              <a:xfrm>
                <a:off x="3303720" y="1639800"/>
                <a:ext cx="2536560" cy="3578400"/>
              </a:xfrm>
              <a:prstGeom prst="rect">
                <a:avLst/>
              </a:prstGeom>
              <a:solidFill>
                <a:srgbClr val="f2e0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5"/>
              <p:cNvGrpSpPr/>
              <p:nvPr/>
            </p:nvGrpSpPr>
            <p:grpSpPr>
              <a:xfrm>
                <a:off x="3303720" y="1639800"/>
                <a:ext cx="2536560" cy="3578400"/>
                <a:chOff x="3303720" y="1639800"/>
                <a:chExt cx="2536560" cy="3578400"/>
              </a:xfrm>
            </p:grpSpPr>
            <p:grpSp>
              <p:nvGrpSpPr>
                <p:cNvPr id="117" name="Group 6"/>
                <p:cNvGrpSpPr/>
                <p:nvPr/>
              </p:nvGrpSpPr>
              <p:grpSpPr>
                <a:xfrm>
                  <a:off x="3303720" y="1639800"/>
                  <a:ext cx="2536560" cy="3578040"/>
                  <a:chOff x="3303720" y="1639800"/>
                  <a:chExt cx="2536560" cy="3578040"/>
                </a:xfrm>
              </p:grpSpPr>
              <p:sp>
                <p:nvSpPr>
                  <p:cNvPr id="118" name="Rectangle 7"/>
                  <p:cNvSpPr/>
                  <p:nvPr/>
                </p:nvSpPr>
                <p:spPr>
                  <a:xfrm>
                    <a:off x="3303720" y="1639800"/>
                    <a:ext cx="2536560" cy="3578040"/>
                  </a:xfrm>
                  <a:prstGeom prst="rect">
                    <a:avLst/>
                  </a:prstGeom>
                  <a:solidFill>
                    <a:srgbClr val="f2e0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Rectangle 8"/>
                  <p:cNvSpPr/>
                  <p:nvPr/>
                </p:nvSpPr>
                <p:spPr>
                  <a:xfrm>
                    <a:off x="3303720" y="1639800"/>
                    <a:ext cx="2536560" cy="761760"/>
                  </a:xfrm>
                  <a:prstGeom prst="rect">
                    <a:avLst/>
                  </a:prstGeom>
                  <a:solidFill>
                    <a:srgbClr val="f2e0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       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Rectangle 9"/>
                <p:cNvSpPr/>
                <p:nvPr/>
              </p:nvSpPr>
              <p:spPr>
                <a:xfrm>
                  <a:off x="3303720" y="1639800"/>
                  <a:ext cx="2536560" cy="357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Rectangle 10"/>
            <p:cNvSpPr/>
            <p:nvPr/>
          </p:nvSpPr>
          <p:spPr>
            <a:xfrm>
              <a:off x="3303720" y="1639800"/>
              <a:ext cx="2536560" cy="3578400"/>
            </a:xfrm>
            <a:prstGeom prst="rect">
              <a:avLst/>
            </a:prstGeom>
            <a:noFill/>
            <a:ln w="0">
              <a:solidFill>
                <a:srgbClr val="173a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Picture 11" descr="gugo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971640" y="404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初读文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79280" y="119700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课文第一节和最后一句，你能发现建筑物说明文写作上的一般规律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alibri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宋体"/>
              </a:rPr>
              <a:t>说明顺序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宋体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宋体"/>
              </a:rPr>
              <a:t>空间顺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为了清楚地展示空间顺序，作者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一方面恰当选择事物的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宋体"/>
              </a:rPr>
              <a:t>立足点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一方面准确地运用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宋体"/>
              </a:rPr>
              <a:t>方位词语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，有条理地加以说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755640" y="69228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我们的发现</a:t>
            </a:r>
            <a:r>
              <a:rPr b="0" lang="zh-CN" sz="4400" spc="-1" strike="noStrike">
                <a:solidFill>
                  <a:srgbClr val="1f497d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539640" y="1557360"/>
            <a:ext cx="82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开篇一般要交代：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建筑物的地位、地理位置、建造年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最后要总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点明了故宫的特征是：宏伟的建筑群；和谐统一的布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采用了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总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---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分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---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总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的结构特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268360" y="1197000"/>
            <a:ext cx="35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95280" y="47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了事物的特征后，作者按照什么顺序，向我们介绍了哪些建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2006530103244231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424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按文章的说明顺序填写下面的故宫示意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900000" y="1025640"/>
            <a:ext cx="7417080" cy="5832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851280" y="6248520"/>
            <a:ext cx="720720" cy="609480"/>
          </a:xfrm>
          <a:prstGeom prst="flowChartOffpage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午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700360" y="4941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132000" y="537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076360" y="4869000"/>
            <a:ext cx="574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76720" y="4797360"/>
            <a:ext cx="21564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780000" y="4797360"/>
            <a:ext cx="14436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140360" y="4797360"/>
            <a:ext cx="14256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500720" y="4797360"/>
            <a:ext cx="14436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476360" y="4365720"/>
            <a:ext cx="9144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武英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227640" y="4508640"/>
            <a:ext cx="105912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文华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2771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700360" y="2997360"/>
            <a:ext cx="3024000" cy="158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3564000" y="3068640"/>
            <a:ext cx="107928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保和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3348000" y="3933720"/>
            <a:ext cx="1562040" cy="358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太和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3780000" y="3500280"/>
            <a:ext cx="57600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中和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3276720" y="2492280"/>
            <a:ext cx="1582560" cy="358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乾清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0"/>
          <p:cNvSpPr/>
          <p:nvPr/>
        </p:nvSpPr>
        <p:spPr>
          <a:xfrm flipH="1">
            <a:off x="3707640" y="2133720"/>
            <a:ext cx="792360" cy="28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交泰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64000" y="1700280"/>
            <a:ext cx="100800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坤宁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2700360" y="1413000"/>
            <a:ext cx="2881440" cy="214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御花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3059280" y="907920"/>
            <a:ext cx="216036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神武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3276720" y="501336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汉白玉石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6227640" y="4365720"/>
            <a:ext cx="108108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文华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6"/>
          <p:cNvSpPr/>
          <p:nvPr/>
        </p:nvSpPr>
        <p:spPr>
          <a:xfrm flipH="1" flipV="1">
            <a:off x="5148360" y="5444640"/>
            <a:ext cx="107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6156360" y="5877000"/>
            <a:ext cx="9144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金水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3059280" y="5445000"/>
            <a:ext cx="23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2556000" y="5084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H="1">
            <a:off x="5292720" y="4941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4932360" y="4797360"/>
            <a:ext cx="21744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2555640" y="4941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5508720" y="4869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7391520" y="1981080"/>
            <a:ext cx="53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到北的空间说明顺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5"/>
          <p:cNvSpPr/>
          <p:nvPr/>
        </p:nvSpPr>
        <p:spPr>
          <a:xfrm>
            <a:off x="6156360" y="1628640"/>
            <a:ext cx="576360" cy="11527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6300720" y="1341360"/>
            <a:ext cx="358920" cy="28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6372360" y="2852640"/>
            <a:ext cx="21564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4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755640" y="479736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故宫的说明顺序及说明的结构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27813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一部分：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广场以南，主要建筑是三大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太和殿、中和殿、保和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部分：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广场以北，主要建筑是后三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乾清宫、交泰殿、坤宁宫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71640" y="537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空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为顺序，从南到北进行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1476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故宫整体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368160" y="1197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宏大壮丽、建筑精美、布局统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122200" y="609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总说和分说相结合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总分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11280" y="177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故宫的整体布局可分为两部分，从哪个段落可以看出来？每部分的主要建筑有哪些？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WordArt 12"/>
          <p:cNvSpPr txBox="1"/>
          <p:nvPr/>
        </p:nvSpPr>
        <p:spPr>
          <a:xfrm>
            <a:off x="2987640" y="115920"/>
            <a:ext cx="288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整体感知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水立方"/>
          <p:cNvPicPr/>
          <p:nvPr/>
        </p:nvPicPr>
        <p:blipFill>
          <a:blip r:embed="rId1"/>
          <a:stretch/>
        </p:blipFill>
        <p:spPr>
          <a:xfrm>
            <a:off x="539640" y="765000"/>
            <a:ext cx="4032360" cy="303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鸟巢"/>
          <p:cNvPicPr/>
          <p:nvPr/>
        </p:nvPicPr>
        <p:blipFill>
          <a:blip r:embed="rId2"/>
          <a:stretch/>
        </p:blipFill>
        <p:spPr>
          <a:xfrm>
            <a:off x="4643280" y="2708280"/>
            <a:ext cx="40323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A:\ci.bmp"/>
          <p:cNvPicPr/>
          <p:nvPr/>
        </p:nvPicPr>
        <p:blipFill>
          <a:blip r:embed="rId1"/>
          <a:stretch/>
        </p:blipFill>
        <p:spPr>
          <a:xfrm>
            <a:off x="2916360" y="115920"/>
            <a:ext cx="5562360" cy="67420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/>
          <p:cNvSpPr/>
          <p:nvPr/>
        </p:nvSpPr>
        <p:spPr>
          <a:xfrm>
            <a:off x="1619280" y="4941720"/>
            <a:ext cx="1440000" cy="503280"/>
          </a:xfrm>
          <a:prstGeom prst="pie">
            <a:avLst/>
          </a:prstGeom>
          <a:solidFill>
            <a:srgbClr val="f90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468360" y="476280"/>
            <a:ext cx="2374920" cy="453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默读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文，按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章的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填写这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:\ci.bmp"/>
          <p:cNvPicPr/>
          <p:nvPr/>
        </p:nvPicPr>
        <p:blipFill>
          <a:blip r:embed="rId1"/>
          <a:stretch/>
        </p:blipFill>
        <p:spPr>
          <a:xfrm>
            <a:off x="1258920" y="476280"/>
            <a:ext cx="5329080" cy="604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3995640" y="55166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—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午 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356000" y="4365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金水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239720" y="3645000"/>
            <a:ext cx="11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-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太和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6160680" y="30826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东华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047240" y="30826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西华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239720" y="2708280"/>
            <a:ext cx="12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太和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913920" y="242100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4024080" y="76500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御花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3925800" y="2205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915360" y="1989000"/>
            <a:ext cx="6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</a:t>
            </a:r>
            <a:r>
              <a:rPr b="1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925800" y="1773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388476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562920" y="11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神武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-149040" y="836640"/>
            <a:ext cx="127764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故宫示意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3852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434360" y="29242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中和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434360" y="3357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保和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7434360" y="3860640"/>
            <a:ext cx="120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乾清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7434360" y="436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乾清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434360" y="486900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交泰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7434360" y="5373720"/>
            <a:ext cx="120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坤宁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12"/>
          <p:cNvSpPr txBox="1"/>
          <p:nvPr/>
        </p:nvSpPr>
        <p:spPr>
          <a:xfrm>
            <a:off x="611280" y="26028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第二段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95280" y="105264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宫的总体特征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段主要运用了什么说明方法？作用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95280" y="1844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宏大壮丽、建筑精美、布局统一，集中体现我国古代建筑艺术的独特风格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79280" y="4508640"/>
            <a:ext cx="86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列数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；用具体准确的数字生动的说明故宫的整体布局、外观概貌，体现故宫宏大壮丽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12"/>
          <p:cNvSpPr txBox="1"/>
          <p:nvPr/>
        </p:nvSpPr>
        <p:spPr>
          <a:xfrm>
            <a:off x="539640" y="260280"/>
            <a:ext cx="28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第五段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68360" y="907920"/>
            <a:ext cx="84596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１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太和殿的外观颜色有什么特点？找出相关的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２．本段用了什么说明顺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３．这一段主要用了什么说明方法？请从文中找到具体的语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176560" y="581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5120" y="184464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词语有湛蓝、金黄色、青蓝点金、贴金彩画、红色大柱、金锁窗、朱漆门。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红黄为主，红色代表着吉祥、喜庆，黄色代表雍容富贵，是皇权的体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68360" y="3789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从屋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殿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额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梁柱到门窗，从上到下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空间顺序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392920" y="5877000"/>
            <a:ext cx="42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列数字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高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，面积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38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平方米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611280" y="333360"/>
            <a:ext cx="446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第七、八段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24000" y="1555560"/>
            <a:ext cx="8280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太和殿位置在哪里？用途是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为什么要把太和殿作为解说的重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036160" y="2421000"/>
            <a:ext cx="45363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位置：中轴线上；  用途：举行重大典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46384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95280" y="414972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太和殿是前朝以至整个故宫的重点建筑物，是封建皇帝行使统治权利和举行重大典礼的场所，另外它在整个建筑群中最具代表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11280" y="333360"/>
            <a:ext cx="42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第十一段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95280" y="166140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文哪些段落介绍的是前朝，哪些是内廷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段 在文中起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9640" y="4724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段在文中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承上启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287000" y="2803680"/>
            <a:ext cx="54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-1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段讲前朝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2-1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段讲内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95280" y="9079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仿佛进入苏州园林的是故宫的哪处建筑？运用了什么说明方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66400" y="3067560"/>
            <a:ext cx="59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御花园；打比方。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95280" y="21182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章最后一段为全文作总结，找找看：写从景山回望故宫全貌的句子在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12"/>
          <p:cNvSpPr txBox="1"/>
          <p:nvPr/>
        </p:nvSpPr>
        <p:spPr>
          <a:xfrm>
            <a:off x="755640" y="476280"/>
            <a:ext cx="3311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第十六段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24000" y="335772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站在景山的高处望故宫，重重殿宇，层层楼阁，道道宫墙，错综相连，而井然有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091280" y="1836720"/>
            <a:ext cx="854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83600" y="2187720"/>
            <a:ext cx="6069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故宫博物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755640" y="674640"/>
            <a:ext cx="289080" cy="482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31960" y="404640"/>
            <a:ext cx="75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黑体"/>
                <a:ea typeface="黑体"/>
              </a:rPr>
              <a:t>(1-2)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总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：位置：历史、建筑地位、总体布局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外观概貌、建筑总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038240" y="3195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1547640" y="2403360"/>
            <a:ext cx="344520" cy="2235240"/>
          </a:xfrm>
          <a:custGeom>
            <a:avLst/>
            <a:gdLst>
              <a:gd name="textAreaLeft" fmla="*/ 220320 w 344520"/>
              <a:gd name="textAreaRight" fmla="*/ 344880 w 344520"/>
              <a:gd name="textAreaTop" fmla="*/ 57960 h 2235240"/>
              <a:gd name="textAreaBottom" fmla="*/ 2177280 h 22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679400" y="2114640"/>
            <a:ext cx="27352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前朝</a:t>
            </a: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三大殿</a:t>
            </a: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(3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黑体"/>
              </a:rPr>
              <a:t>—</a:t>
            </a: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3924360" y="1827360"/>
            <a:ext cx="182520" cy="1223640"/>
          </a:xfrm>
          <a:custGeom>
            <a:avLst/>
            <a:gdLst>
              <a:gd name="textAreaLeft" fmla="*/ 116640 w 182520"/>
              <a:gd name="textAreaRight" fmla="*/ 182880 w 18252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256360" y="1617840"/>
            <a:ext cx="1800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太和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中和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保和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024520" y="1655640"/>
            <a:ext cx="242640" cy="1462320"/>
          </a:xfrm>
          <a:custGeom>
            <a:avLst/>
            <a:gdLst>
              <a:gd name="textAreaLeft" fmla="*/ 155160 w 242640"/>
              <a:gd name="textAreaRight" fmla="*/ 243000 w 242640"/>
              <a:gd name="textAreaTop" fmla="*/ 37800 h 1462320"/>
              <a:gd name="textAreaBottom" fmla="*/ 1424520 h 14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4010040" y="1593720"/>
            <a:ext cx="12952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外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765440" y="4118040"/>
            <a:ext cx="2879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内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(12-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3054240" y="4122720"/>
            <a:ext cx="166680" cy="868320"/>
          </a:xfrm>
          <a:custGeom>
            <a:avLst/>
            <a:gdLst>
              <a:gd name="textAreaLeft" fmla="*/ 106560 w 166680"/>
              <a:gd name="textAreaRight" fmla="*/ 166680 w 166680"/>
              <a:gd name="textAreaTop" fmla="*/ 22320 h 868320"/>
              <a:gd name="textAreaBottom" fmla="*/ 846000 h 86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3192480" y="4065480"/>
            <a:ext cx="2087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后三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御花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900000" y="521172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黑体"/>
                <a:ea typeface="黑体"/>
              </a:rPr>
              <a:t>(16)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总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  回望故宫，强调艺术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8246880" y="404640"/>
            <a:ext cx="546120" cy="62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黑体"/>
                <a:ea typeface="黑体"/>
              </a:rPr>
              <a:t>规模宏大，建筑精美，布局统一，风格独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1405080" y="5950080"/>
            <a:ext cx="6335640" cy="520560"/>
          </a:xfrm>
          <a:prstGeom prst="rect">
            <a:avLst/>
          </a:prstGeom>
          <a:solidFill>
            <a:srgbClr val="fdf9e7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空 间 顺 序（南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北）  </a:t>
            </a: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+ 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游 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1692360" y="34131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(11)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承上启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  <p:sndAc>
      <p:stSnd>
        <p:snd r:embed="rId1" name="Questio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e49cf9110ceeafa0a7ef3fcd"/>
          <p:cNvPicPr/>
          <p:nvPr/>
        </p:nvPicPr>
        <p:blipFill>
          <a:blip r:embed="rId1"/>
          <a:stretch/>
        </p:blipFill>
        <p:spPr>
          <a:xfrm>
            <a:off x="1116000" y="90792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755640" y="549360"/>
            <a:ext cx="79200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归纳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说明对象：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故宫博物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说明对象的特征：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宏大壮丽、建筑精美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布局统一、独特风格</a:t>
            </a:r>
            <a:br>
              <a:rPr sz="2800"/>
            </a:b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说明顺序：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空间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说明方法：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分类别  列数字  打比方  作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说明语言：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准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说明类别：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事物说明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841320" y="11858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通读课文，体会作者写作时流露的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感情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55640" y="278604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对建筑文物的精美，劳动人民的智慧，历史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                        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爱   赞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对封建统治中心，为封建统治服务的皇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                       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憎恨  揭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moon2"/>
          <p:cNvPicPr/>
          <p:nvPr/>
        </p:nvPicPr>
        <p:blipFill>
          <a:blip r:embed="rId1"/>
          <a:stretch/>
        </p:blipFill>
        <p:spPr>
          <a:xfrm>
            <a:off x="152280" y="380880"/>
            <a:ext cx="4478400" cy="60962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048120" y="175248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抓住说明对象的特点：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故宫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宏大壮丽、布局统一、建筑精美、风格独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合理安排说明顺序：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参观建筑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空间方位顺序为主，选定立足点，交代清楚方位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突出重点：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组建筑物要突出重点，体现特点。如文中重点介绍太和殿来体现特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895480" y="30492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学习本文后在写作说明文上有什么启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200511211710822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1447920" y="12952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妙笔生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27944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600200" y="2286000"/>
            <a:ext cx="67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按照空间顺序向别人介绍你们的学校或你们的教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要选好立足点，抓住事物的特征，重点突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0862c354e0be4a3ed00906fc"/>
          <p:cNvPicPr/>
          <p:nvPr/>
        </p:nvPicPr>
        <p:blipFill>
          <a:blip r:embed="rId1"/>
          <a:stretch/>
        </p:blipFill>
        <p:spPr>
          <a:xfrm>
            <a:off x="1187280" y="1125360"/>
            <a:ext cx="70488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1905120" y="1066680"/>
            <a:ext cx="55623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故宫博物院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故宫（紫禁城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ist009_magic02_02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"/>
          <p:cNvSpPr txBox="1"/>
          <p:nvPr/>
        </p:nvSpPr>
        <p:spPr>
          <a:xfrm>
            <a:off x="914400" y="2975040"/>
            <a:ext cx="718668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紫：紫薇垣（天地之宫），天子所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禁：守卫森严，常人难以涉足的禁区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341496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收藏文物</a:t>
            </a:r>
            <a:r>
              <a:rPr b="1" lang="en-US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100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万件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游览故宫，一是欣赏丰富多彩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建筑艺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二是观赏陈列于室内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珍贵的文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故宫博物院藏有大量珍贵文物，据统计总共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5265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件之多，统称有文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万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占全国文物总数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其中有很多是绝无仅有的国宝。在几个宫殿中设立了历代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艺术馆、珍宝馆、钟表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，爱好艺术的人在这些无与伦比的艺术品前，往往久久不忍离去。设在故宫东路的珍宝馆，展出各种奇珍异宝。如一套清代金银珠云龙纹甲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身缠绕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龙，形状生动，穿插于云朵之间。甲胄是用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个小钢片连结起来的，每个钢片厚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毫米，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毫米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毫米，钻上小孔，以便穿线连结。据说，为制造这套甲胄，共用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多个工时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图片点击可在新窗口打开查看"/>
          <p:cNvPicPr/>
          <p:nvPr/>
        </p:nvPicPr>
        <p:blipFill>
          <a:blip r:embed="rId1"/>
          <a:stretch/>
        </p:blipFill>
        <p:spPr>
          <a:xfrm>
            <a:off x="179280" y="620640"/>
            <a:ext cx="3168720" cy="136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图片24"/>
          <p:cNvPicPr/>
          <p:nvPr/>
        </p:nvPicPr>
        <p:blipFill>
          <a:blip r:embed="rId2"/>
          <a:stretch/>
        </p:blipFill>
        <p:spPr>
          <a:xfrm>
            <a:off x="5832360" y="115920"/>
            <a:ext cx="3311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6:04:27Z</dcterms:created>
  <dc:creator/>
  <dc:description/>
  <dc:language>en-US</dc:language>
  <cp:lastModifiedBy>Administrator</cp:lastModifiedBy>
  <dcterms:modified xsi:type="dcterms:W3CDTF">2014-12-23T07:18:10Z</dcterms:modified>
  <cp:revision>12</cp:revision>
  <dc:subject/>
  <dc:title>同学们，你们喜欢旅游吗？</dc:title>
</cp:coreProperties>
</file>